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sldImg"/>
          </p:nvPr>
        </p:nvSpPr>
        <p:spPr>
          <a:xfrm>
            <a:off x="944280" y="746280"/>
            <a:ext cx="49705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 type="ftr" idx="44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 type="sldNum" idx="45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B03D-53D8-4BB1-9391-2C1D60F1C7CC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944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7C74-C219-4EA9-9049-7DB2A3C0301B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B39-F9F4-4292-BC88-51153C1C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5B05-BA1B-457A-A74D-AC94455B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9D534-7C92-46AE-9A0C-06B81B10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1101B-1D73-4429-B231-2CBAB88D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BCB8D-73F0-4BFC-BB36-4CB9E82A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D8009-E73F-47C6-80FC-993D2100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8808F-C96A-40E3-B84D-468FCF07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2E727-1BAF-42C3-B8F8-A89C520B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0ECD8-FDC4-4364-9C61-F83DE4FC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C453C-879A-4982-ACA8-C5A8AD4D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04103-B161-48C1-8BA6-E06978CC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122DC-E7E9-4F41-89E6-F130578F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C21F-053E-4B34-99D7-26AD1242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F01CB-F2FD-41ED-A0D8-C55CE34C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C2899-7015-42B6-AE5A-4D36D991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BBE92-2578-4B6E-B990-42B089E9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149B3-988F-4819-B286-B14C2A3D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D53E5-D445-4E93-A380-ABA80DCB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AED55-88D2-45F1-B3C9-D39F64B5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3AD88-8BE1-4ABA-9AE3-A73EE407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D388A-6B8F-493C-A736-A9EA7F7A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8A57B-7DCB-4551-9D47-F380F0CF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F6E20-B6EF-4188-A979-02F62E8B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EEA9-D095-4502-B669-91420F67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D4583-9E49-4851-9DA1-8BB6CD1B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35BD8-FD6B-4B0A-8E0D-CA671D70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6CA1C-6409-4EB1-A6DB-90E986A5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AF3CF-56F6-4D81-A7C9-15F2708B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BFBF6-8E37-440C-A33B-AE83893A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7A0CA-9F6E-4B6B-BE55-940FACB6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53549-E2D4-4D52-8518-49F4B9A4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F8BD0-2B7B-4EF3-93F5-2AA371C1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DE8AE-374E-4F18-89ED-49516BFB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9E659-0111-4A2B-9D27-A2622E62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E401-D620-4AC6-A669-68284EEF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A338B-F9E6-45AB-94D7-EBE7D677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58213-6ECE-4606-BDC2-17C96175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2C8E3-6A4F-4BA5-9695-06962902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C3CC6-870F-4746-8464-98972733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FCF9A-B1C5-4147-AA33-E42B7AB1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78E90-18CB-46A1-B63E-D6D67D68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90987-CA15-4151-A357-B8D20CA4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22DC1-644E-4121-9949-39D2A626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503DA-B525-476C-81D9-64E96887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B5FA2-12C4-4EBE-ACDB-34177AF5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7E50-554D-4920-8E30-EBBA0C9F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C51CD-182F-47B3-A2D6-D24BF248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D02FF-642F-45D2-A73D-0A32FA27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3F903-DDC1-4D84-8C89-1B05D512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71A4A-0182-477A-9150-62F63CE1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2F12D-BC77-441B-8E54-F005AC3A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B804A-F01E-4EAA-9E93-2AC613B7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719B1-CB0F-4D99-87E4-74728822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AD058-927C-4D3E-A491-5ACB5001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556E6-C47B-4580-86CF-2F1E5D22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9BD5F-23DD-496F-87B0-326D9C68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2B84-0D8B-4D7F-BBD7-CAA4C566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A83613-3821-4ADA-8E6A-ECADC3C9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48CB6-4F55-422C-8D7C-C2F81797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D7962-33D9-479F-B630-99EE3307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79267-CC59-4761-8FEF-83E90707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957BAC-5BC9-4898-B174-9B5A5C0D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BB684-1A47-44FD-8864-0AABA9E5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C0706A-A033-4F8C-BC8F-09FFD1F0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DC66D1-11F6-4B89-9A95-F66DE36B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5521F8-3C9A-4B89-8C93-7F59AE74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A24B7A-6A2E-43B7-B021-D036D3D1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3BD9-B032-4C82-8381-A750172A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37D2B9-5903-43E6-9853-9ADF1A9B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2A6593-B974-4E8D-8588-AB46E186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FFA2E4-8F13-4CD0-A12B-492F7F2A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5DF040-6757-4CEB-A2B3-3E7E9D38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00E475-09ED-430F-A3B8-5DF945F3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BE8EC2-72D5-4038-BE93-006F36D0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134B26-8818-4473-B010-4D02C2E8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E37959-B109-4AB9-85B4-A12C33E7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A41C89-D258-46F2-84DF-13268C36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2D5D-3237-4A2F-9C8F-C09130E3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E729-E46C-4129-AE03-89F63673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E85B-6AEF-4BDD-BB17-E8D50191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418C-8D00-4D4C-BD32-72AFC89F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CDF9-A19B-43C0-A7E7-30A8AC37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B8BB-A58D-4236-9EF4-607E8E57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3011-970F-4E9D-814B-2CC6396E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7E64-528F-4217-A81C-C5D174A5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0850-FE5E-4569-9529-ED66BD43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3735F-2D61-464E-81E2-66A163C5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20DD2-05F1-4617-82A8-5E7DE21D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51DF3-19E6-40B1-98ED-3C8615AF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18E27-D142-4280-9A18-420419A0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508F3-BC0F-461E-BF52-985FFF39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C88B-EFA6-4EC7-96D1-EBB30C0F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9787C-1786-48C4-B848-7FF78453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C4E16-04D4-4D67-8E8D-56D58C30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A9733-2BA7-4292-B06E-20A6CE86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8EFA1-838B-45B1-9B95-3C3BA754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D4C84-3A1E-4686-A082-30F2AFB7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3A28A-66B3-44DC-A6FC-7A0A48F5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04E5F-E3B6-48F9-932C-8F54949B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988EE-1247-4E84-B245-4C721244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B4516-27D3-4130-B03B-9A8D468F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C5F2D-B412-4405-A80E-98F87C88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1E8E-B92D-401B-A937-48DBA1D4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D31FD-69EA-4C0D-84D3-2C1F0B42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57879-DFC8-43D3-9BEB-280F7771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773A1-7DDF-4D6F-BAF5-E6432E66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A8D8F-F3AF-4E97-8378-EF9D2D46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ECAA8-2780-4BC7-810A-73520F00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0D304-E7F0-4833-B711-2E6136D2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46258-EE9E-4832-A022-1A67D444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A08C3-BCB1-42F9-9352-8AB87DA8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986E2-75BC-4C1B-AADC-60B75947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02D6A-4887-4886-9151-4DAACC51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B1FA-0968-4C94-92A5-96FF738A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6D4BD-A269-4D24-8EE8-3798980C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0BFB9-191C-46B3-80D4-64F362EF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1B0FC-7E0D-4CFE-A34A-CE3B4EAC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7BB7B-A7A9-4E15-ACA0-FE9455E4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0FDDF-1A3A-4E68-8E84-9F6BEC3A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BCF0A-93F7-4A0C-ABF7-DE51F173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38291-9282-4037-8F62-B887A813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1C904-6846-47A5-B621-7A39D5FF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2C614-0887-448E-802F-FA7A56DF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FA09F-D72F-429A-9577-E7CB9D63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61DD-98AA-472B-AE00-D96019B6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59FEF-9FC1-4776-B8B9-4DC3A269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F6A45-E97D-47A6-98E6-F4FB91C0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24C3E-472E-4B80-BEE9-BF852E8C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89657-6737-4895-8A99-FFBD9DC3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0F33E-EF5C-4DC9-B4B9-9B4DE0FF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C96FD-02D0-43E6-9D42-E2708D50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6DB37-AB32-4256-A318-EB6CAFD9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8F9D7-8890-439C-A231-739C4532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037D1-1569-44B9-A364-154BA505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85067-200F-43CA-B54D-AA4EE27F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E807-0951-4FCE-B971-D04654BE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DE7A9-9363-4BEC-BF4E-367DC0D0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CBBF2-7C7D-47EF-9917-B2A55F1F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ACEFA-F0C6-4FE8-8410-790CA63E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67D00-731C-4ADA-B137-FD51BE5F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3E702-6AD2-44E4-82E0-FE45BD16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8C755-29C8-40A5-8DC0-67609994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03636-B00A-4FAC-A942-B8479ACF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94921-F3A1-4122-808B-68A5E67F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4C100-75FD-4BEA-BC09-C1F0B4EC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AECAD-AD51-4EAA-95CF-12EADB64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9AA-BD2A-4F97-B1E0-CADC7105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84DAF-DE8B-4ECA-A5B5-F2221358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27683-B6CB-4E56-AC91-3B4160A3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102AD-871A-49DD-972E-31187EE1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6C190-11AB-4BA0-B340-8B86ABED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FE0F8-424B-4A30-855C-2D1914CB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38392-7AA2-465D-B9D4-F5F192B6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206BB-409D-4CD5-917A-9A9F8DF5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99B8A-BDA9-4842-81A7-B6224040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E1A3B-74E6-415C-AAE7-69B98666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51D2F-9C67-4611-A4EF-7EB5A332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2312-2771-42DB-B93A-A959CD5D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20945-9163-4074-AF49-7926CD05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1A23A-3EA2-4C7D-A688-F8F0420B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FF905-C588-4A25-89F1-B76C4B79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6FBB9-A990-4656-B2B1-C75AADA1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0C800-DB95-4AF4-A7E8-B14DF9B6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7DC7A-F40C-4025-8830-FB05C6E5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471B6-3E11-43BA-8E24-EA53B761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B37B3-D54E-46B8-9AFE-2C6103C1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1D013-BDF9-4E58-95BA-58235436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9544B-3FF5-47CC-9150-ADC6639F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2D9E-B9A9-4A5F-9600-C0784969B5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63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8A93-34C8-4716-B1F8-D9B77357E7F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20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21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35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31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523D-0AE9-4854-9F62-036961F7D7D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01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04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6BF8-0666-4511-8F12-47307480D8F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093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094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6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9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100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 type="ftr" idx="3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BC13-0FAA-4DDE-B27F-D0C7672561C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1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1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1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 type="dt" idx="4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 type="ftr" idx="4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 type="sldNum" idx="4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A3B1-4688-4600-9372-09B7F5EF019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C4E9-969D-4C5A-8779-5202A63AB8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67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31DA-B638-4F4A-AAE7-69C6E89B707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2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2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3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B2D0-C1EA-4906-85A8-4A53EDDEDA1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16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53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DAA2-134E-4113-98FE-0FE0A58178F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97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9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500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D003-5994-4A2E-B175-0ACE79444B5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5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5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5EE5-1995-4E3F-999D-8DAF8D7F39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98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BB51-E470-43B8-A8A1-569237331D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58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6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7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9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0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1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9E7C-57BE-4CB9-8778-3F570EB085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Text Box 7"/>
          <p:cNvSpPr/>
          <p:nvPr/>
        </p:nvSpPr>
        <p:spPr>
          <a:xfrm>
            <a:off x="179280" y="40464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Валеологический всеобуч для детей и родителей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как средство формирования здорового образа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Text Box 8"/>
          <p:cNvSpPr/>
          <p:nvPr/>
        </p:nvSpPr>
        <p:spPr>
          <a:xfrm>
            <a:off x="2627280" y="3933720"/>
            <a:ext cx="44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Text Box 10"/>
          <p:cNvSpPr/>
          <p:nvPr/>
        </p:nvSpPr>
        <p:spPr>
          <a:xfrm>
            <a:off x="3851280" y="4365720"/>
            <a:ext cx="529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920" indent="-22399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чтовый адрес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602234, Владимирская область, Селивановский район, д.Переложниково, ул. Молодежная д.8 кв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13"/>
          <p:cNvSpPr/>
          <p:nvPr/>
        </p:nvSpPr>
        <p:spPr>
          <a:xfrm>
            <a:off x="468360" y="1773360"/>
            <a:ext cx="84265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одель валеологического всеобуча разработа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илковой Татьяной Юрьевной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ителем начальных классов 1квалификационной категори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стаж работы – 30 лет) Переложниковской основной общеобразовательной школы Селивановского район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ладимирской област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8" name="Picture 14" descr="33"/>
          <p:cNvPicPr/>
          <p:nvPr/>
        </p:nvPicPr>
        <p:blipFill>
          <a:blip r:embed="rId1"/>
          <a:stretch/>
        </p:blipFill>
        <p:spPr>
          <a:xfrm>
            <a:off x="179280" y="3933720"/>
            <a:ext cx="36338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Text Box 8"/>
          <p:cNvSpPr/>
          <p:nvPr/>
        </p:nvSpPr>
        <p:spPr>
          <a:xfrm>
            <a:off x="826920" y="404640"/>
            <a:ext cx="813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Здоровье ребенка можно считать нормо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если он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Text Box 9"/>
          <p:cNvSpPr/>
          <p:nvPr/>
        </p:nvSpPr>
        <p:spPr>
          <a:xfrm>
            <a:off x="611280" y="170028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умеет преодолевать усталость (физический аспект здоровья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Text Box 10"/>
          <p:cNvSpPr/>
          <p:nvPr/>
        </p:nvSpPr>
        <p:spPr>
          <a:xfrm>
            <a:off x="611280" y="2852640"/>
            <a:ext cx="468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проявляет хорошие умственные способности, любознательность, воображение, самообучаемость (интеллектуальный аспект здоровья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Text Box 11"/>
          <p:cNvSpPr/>
          <p:nvPr/>
        </p:nvSpPr>
        <p:spPr>
          <a:xfrm>
            <a:off x="539640" y="458136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честен, самокритичен (нравственное здоровье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Text Box 12"/>
          <p:cNvSpPr/>
          <p:nvPr/>
        </p:nvSpPr>
        <p:spPr>
          <a:xfrm>
            <a:off x="250920" y="5373720"/>
            <a:ext cx="47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уравновешен (эмоциональный аспект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Text Box 13"/>
          <p:cNvSpPr/>
          <p:nvPr/>
        </p:nvSpPr>
        <p:spPr>
          <a:xfrm>
            <a:off x="468360" y="465300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8" name="Picture 15" descr="24"/>
          <p:cNvPicPr/>
          <p:nvPr/>
        </p:nvPicPr>
        <p:blipFill>
          <a:blip r:embed="rId1"/>
          <a:stretch/>
        </p:blipFill>
        <p:spPr>
          <a:xfrm>
            <a:off x="5148360" y="1700280"/>
            <a:ext cx="368928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9" name="Picture 6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Text Box 5"/>
          <p:cNvSpPr/>
          <p:nvPr/>
        </p:nvSpPr>
        <p:spPr>
          <a:xfrm>
            <a:off x="0" y="1773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22440" indent="-242244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ь всеобуча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оздать условия для формирования у детей потребности в здоровом образе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Text Box 6"/>
          <p:cNvSpPr/>
          <p:nvPr/>
        </p:nvSpPr>
        <p:spPr>
          <a:xfrm>
            <a:off x="1692360" y="2708280"/>
            <a:ext cx="7200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ь детей и родителей осознанному отношению к своему здоровью и здоровью окружающи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влечь родителей к непосредственному и сознательному участию в целенаправленной деятельности по оздоровлению своего организма и организма детей, по формированию у них здоровых привыче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ть валеологическое мышление у всех участников педагогического процес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ть у членов общества базовый объем экологических знаний, основ экологической культуры и потребность в поддержании благоприятной  для здоровья человека сре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Rectangle 7"/>
          <p:cNvSpPr/>
          <p:nvPr/>
        </p:nvSpPr>
        <p:spPr>
          <a:xfrm>
            <a:off x="3956400" y="403200"/>
            <a:ext cx="47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«Здоровый ребенок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хороший учени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полезный для Родины челове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Rectangle 9"/>
          <p:cNvSpPr/>
          <p:nvPr/>
        </p:nvSpPr>
        <p:spPr>
          <a:xfrm>
            <a:off x="1800" y="270828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Text Box 4"/>
          <p:cNvSpPr/>
          <p:nvPr/>
        </p:nvSpPr>
        <p:spPr>
          <a:xfrm>
            <a:off x="539640" y="18900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леологический всеобуч является составной частью школьной программы «Здоровь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Text Box 5"/>
          <p:cNvSpPr/>
          <p:nvPr/>
        </p:nvSpPr>
        <p:spPr>
          <a:xfrm>
            <a:off x="468360" y="1341360"/>
            <a:ext cx="84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Анализ здоровья учащихся школы за последние 3 года показывает, что в физическом развитии школьников Переложниковской школы не наблюдается ухудш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Text Box 18"/>
          <p:cNvSpPr/>
          <p:nvPr/>
        </p:nvSpPr>
        <p:spPr>
          <a:xfrm>
            <a:off x="539640" y="2924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02-2003уч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Text Box 20"/>
          <p:cNvSpPr/>
          <p:nvPr/>
        </p:nvSpPr>
        <p:spPr>
          <a:xfrm>
            <a:off x="468360" y="3429000"/>
            <a:ext cx="208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ий-63-83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окий-8-10,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зкий-5-6,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Text Box 29"/>
          <p:cNvSpPr/>
          <p:nvPr/>
        </p:nvSpPr>
        <p:spPr>
          <a:xfrm>
            <a:off x="3132000" y="249228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вни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Text Box 31"/>
          <p:cNvSpPr/>
          <p:nvPr/>
        </p:nvSpPr>
        <p:spPr>
          <a:xfrm>
            <a:off x="3276720" y="299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03-2004уч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Text Box 37"/>
          <p:cNvSpPr/>
          <p:nvPr/>
        </p:nvSpPr>
        <p:spPr>
          <a:xfrm>
            <a:off x="3564000" y="335772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4-85,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-10,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-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Text Box 42"/>
          <p:cNvSpPr/>
          <p:nvPr/>
        </p:nvSpPr>
        <p:spPr>
          <a:xfrm>
            <a:off x="6372360" y="292428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04-2005уч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Text Box 43"/>
          <p:cNvSpPr/>
          <p:nvPr/>
        </p:nvSpPr>
        <p:spPr>
          <a:xfrm>
            <a:off x="6659640" y="3284640"/>
            <a:ext cx="208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0-8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-8,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-4,3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Text Box 53"/>
          <p:cNvSpPr/>
          <p:nvPr/>
        </p:nvSpPr>
        <p:spPr>
          <a:xfrm>
            <a:off x="179280" y="62164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Однако выявлены заболевания органов зрения, сердечно-сосудистые заболевания, пониженный иммунит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3" name="Group 71"/>
          <p:cNvGrpSpPr/>
          <p:nvPr/>
        </p:nvGrpSpPr>
        <p:grpSpPr>
          <a:xfrm>
            <a:off x="755640" y="4653000"/>
            <a:ext cx="6842160" cy="1440000"/>
            <a:chOff x="755640" y="4653000"/>
            <a:chExt cx="6842160" cy="1440000"/>
          </a:xfrm>
        </p:grpSpPr>
        <p:grpSp>
          <p:nvGrpSpPr>
            <p:cNvPr id="1224" name="Group 47"/>
            <p:cNvGrpSpPr/>
            <p:nvPr/>
          </p:nvGrpSpPr>
          <p:grpSpPr>
            <a:xfrm>
              <a:off x="3492360" y="4653000"/>
              <a:ext cx="1441440" cy="1368360"/>
              <a:chOff x="3492360" y="4653000"/>
              <a:chExt cx="1441440" cy="1368360"/>
            </a:xfrm>
          </p:grpSpPr>
          <p:grpSp>
            <p:nvGrpSpPr>
              <p:cNvPr id="1225" name="Group 14"/>
              <p:cNvGrpSpPr/>
              <p:nvPr/>
            </p:nvGrpSpPr>
            <p:grpSpPr>
              <a:xfrm>
                <a:off x="3492360" y="4653000"/>
                <a:ext cx="1441440" cy="1368360"/>
                <a:chOff x="3492360" y="4653000"/>
                <a:chExt cx="1441440" cy="1368360"/>
              </a:xfrm>
            </p:grpSpPr>
            <p:sp>
              <p:nvSpPr>
                <p:cNvPr id="1226" name="Oval 9"/>
                <p:cNvSpPr/>
                <p:nvPr/>
              </p:nvSpPr>
              <p:spPr>
                <a:xfrm>
                  <a:off x="3492360" y="4653000"/>
                  <a:ext cx="1441440" cy="136836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11"/>
                <p:cNvSpPr/>
                <p:nvPr/>
              </p:nvSpPr>
              <p:spPr>
                <a:xfrm>
                  <a:off x="4284360" y="5300640"/>
                  <a:ext cx="647640" cy="144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12"/>
                <p:cNvSpPr/>
                <p:nvPr/>
              </p:nvSpPr>
              <p:spPr>
                <a:xfrm>
                  <a:off x="4284360" y="5300640"/>
                  <a:ext cx="503280" cy="433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3"/>
                <p:cNvSpPr/>
                <p:nvPr/>
              </p:nvSpPr>
              <p:spPr>
                <a:xfrm flipV="1">
                  <a:off x="4284360" y="4868640"/>
                  <a:ext cx="431640" cy="431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0" name="Text Box 15"/>
              <p:cNvSpPr/>
              <p:nvPr/>
            </p:nvSpPr>
            <p:spPr>
              <a:xfrm>
                <a:off x="4140000" y="4869000"/>
                <a:ext cx="71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Arial"/>
                  </a:rPr>
                  <a:t>10,5%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Text Box 16"/>
              <p:cNvSpPr/>
              <p:nvPr/>
            </p:nvSpPr>
            <p:spPr>
              <a:xfrm>
                <a:off x="4211280" y="5445000"/>
                <a:ext cx="71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Arial"/>
                  </a:rPr>
                  <a:t>4%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Text Box 17"/>
              <p:cNvSpPr/>
              <p:nvPr/>
            </p:nvSpPr>
            <p:spPr>
              <a:xfrm>
                <a:off x="3492360" y="5157720"/>
                <a:ext cx="71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Arial"/>
                  </a:rPr>
                  <a:t>85,5%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3" name="Group 60"/>
            <p:cNvGrpSpPr/>
            <p:nvPr/>
          </p:nvGrpSpPr>
          <p:grpSpPr>
            <a:xfrm>
              <a:off x="755640" y="4724280"/>
              <a:ext cx="2016000" cy="1368720"/>
              <a:chOff x="755640" y="4724280"/>
              <a:chExt cx="2016000" cy="1368720"/>
            </a:xfrm>
          </p:grpSpPr>
          <p:sp>
            <p:nvSpPr>
              <p:cNvPr id="1234" name="Oval 8"/>
              <p:cNvSpPr/>
              <p:nvPr/>
            </p:nvSpPr>
            <p:spPr>
              <a:xfrm>
                <a:off x="755640" y="4724280"/>
                <a:ext cx="1441440" cy="136872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54"/>
              <p:cNvSpPr/>
              <p:nvPr/>
            </p:nvSpPr>
            <p:spPr>
              <a:xfrm flipV="1">
                <a:off x="1476360" y="5084280"/>
                <a:ext cx="574560" cy="289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55"/>
              <p:cNvSpPr/>
              <p:nvPr/>
            </p:nvSpPr>
            <p:spPr>
              <a:xfrm>
                <a:off x="1476360" y="5373720"/>
                <a:ext cx="719280" cy="142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56"/>
              <p:cNvSpPr/>
              <p:nvPr/>
            </p:nvSpPr>
            <p:spPr>
              <a:xfrm>
                <a:off x="1476360" y="5373720"/>
                <a:ext cx="503280" cy="503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Text Box 57"/>
              <p:cNvSpPr/>
              <p:nvPr/>
            </p:nvSpPr>
            <p:spPr>
              <a:xfrm>
                <a:off x="826920" y="5229360"/>
                <a:ext cx="64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Arial"/>
                  </a:rPr>
                  <a:t>83%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Text Box 58"/>
              <p:cNvSpPr/>
              <p:nvPr/>
            </p:nvSpPr>
            <p:spPr>
              <a:xfrm>
                <a:off x="1835280" y="5589720"/>
                <a:ext cx="647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Arial"/>
                  </a:rPr>
                  <a:t>6,5%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Text Box 59"/>
              <p:cNvSpPr/>
              <p:nvPr/>
            </p:nvSpPr>
            <p:spPr>
              <a:xfrm>
                <a:off x="1979640" y="50846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Arial"/>
                  </a:rPr>
                  <a:t>10,5%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1" name="Group 70"/>
            <p:cNvGrpSpPr/>
            <p:nvPr/>
          </p:nvGrpSpPr>
          <p:grpSpPr>
            <a:xfrm>
              <a:off x="6156360" y="4724280"/>
              <a:ext cx="1441440" cy="1368360"/>
              <a:chOff x="6156360" y="4724280"/>
              <a:chExt cx="1441440" cy="1368360"/>
            </a:xfrm>
          </p:grpSpPr>
          <p:grpSp>
            <p:nvGrpSpPr>
              <p:cNvPr id="1242" name="Group 62"/>
              <p:cNvGrpSpPr/>
              <p:nvPr/>
            </p:nvGrpSpPr>
            <p:grpSpPr>
              <a:xfrm>
                <a:off x="6156360" y="4724280"/>
                <a:ext cx="1441440" cy="1368360"/>
                <a:chOff x="6156360" y="4724280"/>
                <a:chExt cx="1441440" cy="1368360"/>
              </a:xfrm>
            </p:grpSpPr>
            <p:sp>
              <p:nvSpPr>
                <p:cNvPr id="1243" name="Oval 63"/>
                <p:cNvSpPr/>
                <p:nvPr/>
              </p:nvSpPr>
              <p:spPr>
                <a:xfrm>
                  <a:off x="6156360" y="4724280"/>
                  <a:ext cx="1441440" cy="136836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" name="Line 64"/>
                <p:cNvSpPr/>
                <p:nvPr/>
              </p:nvSpPr>
              <p:spPr>
                <a:xfrm>
                  <a:off x="6948360" y="5371920"/>
                  <a:ext cx="647640" cy="144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5" name="Line 65"/>
                <p:cNvSpPr/>
                <p:nvPr/>
              </p:nvSpPr>
              <p:spPr>
                <a:xfrm>
                  <a:off x="6948360" y="5371920"/>
                  <a:ext cx="503280" cy="433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6" name="Line 66"/>
                <p:cNvSpPr/>
                <p:nvPr/>
              </p:nvSpPr>
              <p:spPr>
                <a:xfrm flipV="1">
                  <a:off x="6948360" y="4939920"/>
                  <a:ext cx="431640" cy="431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7" name="Text Box 67"/>
              <p:cNvSpPr/>
              <p:nvPr/>
            </p:nvSpPr>
            <p:spPr>
              <a:xfrm>
                <a:off x="6804000" y="4940280"/>
                <a:ext cx="71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Arial"/>
                  </a:rPr>
                  <a:t>8,7%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Text Box 68"/>
              <p:cNvSpPr/>
              <p:nvPr/>
            </p:nvSpPr>
            <p:spPr>
              <a:xfrm>
                <a:off x="6875640" y="5516640"/>
                <a:ext cx="71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Arial"/>
                  </a:rPr>
                  <a:t>4,3%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Text Box 69"/>
              <p:cNvSpPr/>
              <p:nvPr/>
            </p:nvSpPr>
            <p:spPr>
              <a:xfrm>
                <a:off x="6156360" y="5229360"/>
                <a:ext cx="71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Arial"/>
                  </a:rPr>
                  <a:t>87%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Line 19"/>
          <p:cNvSpPr/>
          <p:nvPr/>
        </p:nvSpPr>
        <p:spPr>
          <a:xfrm flipH="1">
            <a:off x="3642840" y="1071720"/>
            <a:ext cx="1429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Text Box 5"/>
          <p:cNvSpPr/>
          <p:nvPr/>
        </p:nvSpPr>
        <p:spPr>
          <a:xfrm>
            <a:off x="1332000" y="981000"/>
            <a:ext cx="27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Text Box 6"/>
          <p:cNvSpPr/>
          <p:nvPr/>
        </p:nvSpPr>
        <p:spPr>
          <a:xfrm>
            <a:off x="1692360" y="47628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Text Box 7"/>
          <p:cNvSpPr/>
          <p:nvPr/>
        </p:nvSpPr>
        <p:spPr>
          <a:xfrm>
            <a:off x="3059280" y="476280"/>
            <a:ext cx="30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Модель всеобуч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Text Box 8"/>
          <p:cNvSpPr/>
          <p:nvPr/>
        </p:nvSpPr>
        <p:spPr>
          <a:xfrm>
            <a:off x="0" y="6429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66"/>
                </a:solidFill>
                <a:latin typeface="Arial"/>
              </a:rPr>
              <a:t>Лекторий для детей и </a:t>
            </a:r>
            <a:r>
              <a:rPr b="0" i="1" lang="ru-RU" sz="1800" spc="-1" strike="noStrike">
                <a:solidFill>
                  <a:srgbClr val="66ff66"/>
                </a:solidFill>
                <a:latin typeface="Arial"/>
              </a:rPr>
              <a:t>родителей</a:t>
            </a:r>
            <a:r>
              <a:rPr b="0" lang="ru-RU" sz="1800" spc="-1" strike="noStrike">
                <a:solidFill>
                  <a:srgbClr val="66ff66"/>
                </a:solidFill>
                <a:latin typeface="Arial"/>
              </a:rPr>
              <a:t> «Экология  здоровь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Text Box 9"/>
          <p:cNvSpPr/>
          <p:nvPr/>
        </p:nvSpPr>
        <p:spPr>
          <a:xfrm>
            <a:off x="6786720" y="64296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66"/>
                </a:solidFill>
                <a:latin typeface="Arial"/>
              </a:rPr>
              <a:t>Факультативный курс «Экологический буквар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Text Box 10"/>
          <p:cNvSpPr/>
          <p:nvPr/>
        </p:nvSpPr>
        <p:spPr>
          <a:xfrm>
            <a:off x="2143080" y="164304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66"/>
                </a:solidFill>
                <a:latin typeface="Arial"/>
              </a:rPr>
              <a:t>Летняя экспедиция «Друзья доктора Айболит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Text Box 11"/>
          <p:cNvSpPr/>
          <p:nvPr/>
        </p:nvSpPr>
        <p:spPr>
          <a:xfrm>
            <a:off x="4357800" y="164304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66"/>
                </a:solidFill>
                <a:latin typeface="Arial"/>
              </a:rPr>
              <a:t>Индивидуальная оздоровительрая работа в клубе «Помоги себе са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Text Box 13"/>
          <p:cNvSpPr/>
          <p:nvPr/>
        </p:nvSpPr>
        <p:spPr>
          <a:xfrm>
            <a:off x="324000" y="3573360"/>
            <a:ext cx="44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ети младшего школьного возрас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родители 1-4клас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Text Box 14"/>
          <p:cNvSpPr/>
          <p:nvPr/>
        </p:nvSpPr>
        <p:spPr>
          <a:xfrm>
            <a:off x="179280" y="5229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оки реализации всеобуча: 2005-2010г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0" name="Picture 16" descr="23"/>
          <p:cNvPicPr/>
          <p:nvPr/>
        </p:nvPicPr>
        <p:blipFill>
          <a:blip r:embed="rId1"/>
          <a:stretch/>
        </p:blipFill>
        <p:spPr>
          <a:xfrm>
            <a:off x="5508720" y="2681280"/>
            <a:ext cx="3240000" cy="4176720"/>
          </a:xfrm>
          <a:prstGeom prst="rect">
            <a:avLst/>
          </a:prstGeom>
          <a:ln w="0">
            <a:noFill/>
          </a:ln>
        </p:spPr>
      </p:pic>
      <p:sp>
        <p:nvSpPr>
          <p:cNvPr id="1261" name="Line 17"/>
          <p:cNvSpPr/>
          <p:nvPr/>
        </p:nvSpPr>
        <p:spPr>
          <a:xfrm>
            <a:off x="6215040" y="857160"/>
            <a:ext cx="792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Line 18"/>
          <p:cNvSpPr/>
          <p:nvPr/>
        </p:nvSpPr>
        <p:spPr>
          <a:xfrm flipH="1">
            <a:off x="2484000" y="836640"/>
            <a:ext cx="57636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Line 20"/>
          <p:cNvSpPr/>
          <p:nvPr/>
        </p:nvSpPr>
        <p:spPr>
          <a:xfrm>
            <a:off x="5214960" y="928800"/>
            <a:ext cx="144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Rectangle 21"/>
          <p:cNvSpPr/>
          <p:nvPr/>
        </p:nvSpPr>
        <p:spPr>
          <a:xfrm>
            <a:off x="683280" y="2900520"/>
            <a:ext cx="26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Объекты всеобуч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Text Box 4"/>
          <p:cNvSpPr/>
          <p:nvPr/>
        </p:nvSpPr>
        <p:spPr>
          <a:xfrm>
            <a:off x="755640" y="4762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кторий для детей и родителей «Экология здоровь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Text Box 5"/>
          <p:cNvSpPr/>
          <p:nvPr/>
        </p:nvSpPr>
        <p:spPr>
          <a:xfrm>
            <a:off x="790560" y="1413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Перспективное планирование лекционных занятий с детьми и родител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 Box 7"/>
          <p:cNvSpPr/>
          <p:nvPr/>
        </p:nvSpPr>
        <p:spPr>
          <a:xfrm>
            <a:off x="826920" y="249228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Цикл занятий «Доктор Природ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 Box 8"/>
          <p:cNvSpPr/>
          <p:nvPr/>
        </p:nvSpPr>
        <p:spPr>
          <a:xfrm>
            <a:off x="826920" y="321300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Уроки трудового обучения по теме «Проектирование детской площадки в нашей деревне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 Box 9"/>
          <p:cNvSpPr/>
          <p:nvPr/>
        </p:nvSpPr>
        <p:spPr>
          <a:xfrm>
            <a:off x="826920" y="443700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Совместные творческие дела (походы, прогулки, поездки, дни Здоровь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Text Box 10"/>
          <p:cNvSpPr/>
          <p:nvPr/>
        </p:nvSpPr>
        <p:spPr>
          <a:xfrm>
            <a:off x="900000" y="5661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Практические занятия по оздоровлению организ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1" name="Picture 11" descr="25"/>
          <p:cNvPicPr/>
          <p:nvPr/>
        </p:nvPicPr>
        <p:blipFill>
          <a:blip r:embed="rId1"/>
          <a:stretch/>
        </p:blipFill>
        <p:spPr>
          <a:xfrm>
            <a:off x="4932360" y="3933720"/>
            <a:ext cx="3909960" cy="26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4"/>
          <p:cNvSpPr/>
          <p:nvPr/>
        </p:nvSpPr>
        <p:spPr>
          <a:xfrm>
            <a:off x="684360" y="260280"/>
            <a:ext cx="7416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Экспедиц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«Друзья доктора Айболита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(летняя оздоровительная работ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Text Box 5"/>
          <p:cNvSpPr/>
          <p:nvPr/>
        </p:nvSpPr>
        <p:spPr>
          <a:xfrm>
            <a:off x="684360" y="2421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1. Уроки здоров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Text Box 8"/>
          <p:cNvSpPr/>
          <p:nvPr/>
        </p:nvSpPr>
        <p:spPr>
          <a:xfrm>
            <a:off x="5256360" y="501336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3. Закаливание детей «Тропинки здоровь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5" name="Picture 10" descr="21"/>
          <p:cNvPicPr/>
          <p:nvPr/>
        </p:nvPicPr>
        <p:blipFill>
          <a:blip r:embed="rId1"/>
          <a:stretch/>
        </p:blipFill>
        <p:spPr>
          <a:xfrm>
            <a:off x="250920" y="2997360"/>
            <a:ext cx="4643280" cy="36162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7"/>
          <p:cNvSpPr/>
          <p:nvPr/>
        </p:nvSpPr>
        <p:spPr>
          <a:xfrm>
            <a:off x="4319640" y="292428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2. Путешествия по город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Здоровейску (цикл сценариев и материалов для проведения утренников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Text Box 4"/>
          <p:cNvSpPr/>
          <p:nvPr/>
        </p:nvSpPr>
        <p:spPr>
          <a:xfrm>
            <a:off x="611280" y="18900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Факультативный курс «Экологический  букварь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Text Box 5"/>
          <p:cNvSpPr/>
          <p:nvPr/>
        </p:nvSpPr>
        <p:spPr>
          <a:xfrm>
            <a:off x="2050920" y="155736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кологическая  игра «Земля - наш до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Text Box 6"/>
          <p:cNvSpPr/>
          <p:nvPr/>
        </p:nvSpPr>
        <p:spPr>
          <a:xfrm>
            <a:off x="971640" y="1989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Заседания КОА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Text Box 7"/>
          <p:cNvSpPr/>
          <p:nvPr/>
        </p:nvSpPr>
        <p:spPr>
          <a:xfrm>
            <a:off x="468360" y="2924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Text Box 8"/>
          <p:cNvSpPr/>
          <p:nvPr/>
        </p:nvSpPr>
        <p:spPr>
          <a:xfrm>
            <a:off x="0" y="249228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утешествия с Лесовичком по временам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Text Box 9"/>
          <p:cNvSpPr/>
          <p:nvPr/>
        </p:nvSpPr>
        <p:spPr>
          <a:xfrm>
            <a:off x="0" y="364500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кскурсии «Трава у дома твоего» и создание гербария «Знакомые незнакомц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Text Box 10"/>
          <p:cNvSpPr/>
          <p:nvPr/>
        </p:nvSpPr>
        <p:spPr>
          <a:xfrm>
            <a:off x="0" y="4869000"/>
            <a:ext cx="31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здание рукописной Красной книги Владимирской обл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Text Box 13"/>
          <p:cNvSpPr/>
          <p:nvPr/>
        </p:nvSpPr>
        <p:spPr>
          <a:xfrm>
            <a:off x="5435640" y="206064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Занятия «Наши любимцы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Text Box 14"/>
          <p:cNvSpPr/>
          <p:nvPr/>
        </p:nvSpPr>
        <p:spPr>
          <a:xfrm>
            <a:off x="5724360" y="2637000"/>
            <a:ext cx="34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здание альбомов «Животный и растительный мир в филателии», «Жили-были динозавр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Text Box 15"/>
          <p:cNvSpPr/>
          <p:nvPr/>
        </p:nvSpPr>
        <p:spPr>
          <a:xfrm>
            <a:off x="5867280" y="44370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8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ыпуск «Лесной газет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Text Box 16"/>
          <p:cNvSpPr/>
          <p:nvPr/>
        </p:nvSpPr>
        <p:spPr>
          <a:xfrm>
            <a:off x="5940360" y="537372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ерация «Делать добро спеш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8" name="Picture 17" descr="19"/>
          <p:cNvPicPr/>
          <p:nvPr/>
        </p:nvPicPr>
        <p:blipFill>
          <a:blip r:embed="rId1"/>
          <a:stretch/>
        </p:blipFill>
        <p:spPr>
          <a:xfrm>
            <a:off x="3203640" y="2492280"/>
            <a:ext cx="2448000" cy="35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Text Box 4"/>
          <p:cNvSpPr/>
          <p:nvPr/>
        </p:nvSpPr>
        <p:spPr>
          <a:xfrm>
            <a:off x="179280" y="333360"/>
            <a:ext cx="81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дивидуальная оздоровительная работа в клубе   «Помоги себе сам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Text Box 19"/>
          <p:cNvSpPr/>
          <p:nvPr/>
        </p:nvSpPr>
        <p:spPr>
          <a:xfrm>
            <a:off x="0" y="4437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Text Box 27"/>
          <p:cNvSpPr/>
          <p:nvPr/>
        </p:nvSpPr>
        <p:spPr>
          <a:xfrm>
            <a:off x="179280" y="3068640"/>
            <a:ext cx="12457080" cy="9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Rectangle 31"/>
          <p:cNvSpPr/>
          <p:nvPr/>
        </p:nvSpPr>
        <p:spPr>
          <a:xfrm>
            <a:off x="179280" y="5421240"/>
            <a:ext cx="84250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«В нашем распоряжении девять врачей, данных природой, всегда готовых помочь в создании стопроцентного здоровья. Это: солнечный свет, свежий воздух, чистая вода, естественное питание, физические упражнения, отдых, хорошая осанка, разум.»   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П.С.Брег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Text Box 8"/>
          <p:cNvSpPr/>
          <p:nvPr/>
        </p:nvSpPr>
        <p:spPr>
          <a:xfrm>
            <a:off x="1042920" y="1628640"/>
            <a:ext cx="4969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мнастика «Маленьких волшебников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овые упражнения «Лечимся сами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омотерап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алив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4" name="Group 36"/>
          <p:cNvGrpSpPr/>
          <p:nvPr/>
        </p:nvGrpSpPr>
        <p:grpSpPr>
          <a:xfrm>
            <a:off x="174240" y="3284640"/>
            <a:ext cx="6844320" cy="2246760"/>
            <a:chOff x="174240" y="3284640"/>
            <a:chExt cx="6844320" cy="2246760"/>
          </a:xfrm>
        </p:grpSpPr>
        <p:sp>
          <p:nvSpPr>
            <p:cNvPr id="1295" name="Text Box 18"/>
            <p:cNvSpPr/>
            <p:nvPr/>
          </p:nvSpPr>
          <p:spPr>
            <a:xfrm>
              <a:off x="179280" y="3284640"/>
              <a:ext cx="590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4680" indent="-2746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5. Соблюдение щадящего режима детям после пропусков по болезни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Text Box 20"/>
            <p:cNvSpPr/>
            <p:nvPr/>
          </p:nvSpPr>
          <p:spPr>
            <a:xfrm>
              <a:off x="179280" y="3933720"/>
              <a:ext cx="44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6. Личная гигиена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Text Box 22"/>
            <p:cNvSpPr/>
            <p:nvPr/>
          </p:nvSpPr>
          <p:spPr>
            <a:xfrm>
              <a:off x="179280" y="4726080"/>
              <a:ext cx="399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8. Массаж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Text Box 26"/>
            <p:cNvSpPr/>
            <p:nvPr/>
          </p:nvSpPr>
          <p:spPr>
            <a:xfrm flipV="1" rot="10806000">
              <a:off x="174600" y="5157000"/>
              <a:ext cx="68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9.Мониторинг,памятки,рекомендации для детей и родителей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Text Box 32"/>
            <p:cNvSpPr/>
            <p:nvPr/>
          </p:nvSpPr>
          <p:spPr>
            <a:xfrm>
              <a:off x="179280" y="4294080"/>
              <a:ext cx="363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7. Дыхательная гимнастика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00" name="Picture 34" descr="26"/>
          <p:cNvPicPr/>
          <p:nvPr/>
        </p:nvPicPr>
        <p:blipFill>
          <a:blip r:embed="rId1"/>
          <a:stretch/>
        </p:blipFill>
        <p:spPr>
          <a:xfrm>
            <a:off x="6300720" y="1341360"/>
            <a:ext cx="25542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Text Box 4"/>
          <p:cNvSpPr/>
          <p:nvPr/>
        </p:nvSpPr>
        <p:spPr>
          <a:xfrm>
            <a:off x="324000" y="587700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доровье человека - жизненно важная ценность, оно складывается из многих взаимосвязанных друг с другом компон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Text Box 5"/>
          <p:cNvSpPr/>
          <p:nvPr/>
        </p:nvSpPr>
        <p:spPr>
          <a:xfrm>
            <a:off x="1908000" y="3645000"/>
            <a:ext cx="43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Text Box 9"/>
          <p:cNvSpPr/>
          <p:nvPr/>
        </p:nvSpPr>
        <p:spPr>
          <a:xfrm>
            <a:off x="468360" y="1628640"/>
            <a:ext cx="1728720" cy="39888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Text Box 10"/>
          <p:cNvSpPr/>
          <p:nvPr/>
        </p:nvSpPr>
        <p:spPr>
          <a:xfrm>
            <a:off x="2700360" y="1413000"/>
            <a:ext cx="3024000" cy="70380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истота тела, жилища, продуктов пит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Text Box 11"/>
          <p:cNvSpPr/>
          <p:nvPr/>
        </p:nvSpPr>
        <p:spPr>
          <a:xfrm>
            <a:off x="6227640" y="1628640"/>
            <a:ext cx="2376720" cy="39888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ор одеж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Text Box 12"/>
          <p:cNvSpPr/>
          <p:nvPr/>
        </p:nvSpPr>
        <p:spPr>
          <a:xfrm>
            <a:off x="3059280" y="3068640"/>
            <a:ext cx="2663640" cy="64260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Здоровь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Text Box 13"/>
          <p:cNvSpPr/>
          <p:nvPr/>
        </p:nvSpPr>
        <p:spPr>
          <a:xfrm>
            <a:off x="3276720" y="4724280"/>
            <a:ext cx="2160360" cy="70380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ожительные эмо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Text Box 14"/>
          <p:cNvSpPr/>
          <p:nvPr/>
        </p:nvSpPr>
        <p:spPr>
          <a:xfrm>
            <a:off x="395280" y="4149720"/>
            <a:ext cx="2448000" cy="70380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аливание и оздоров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Text Box 16"/>
          <p:cNvSpPr/>
          <p:nvPr/>
        </p:nvSpPr>
        <p:spPr>
          <a:xfrm>
            <a:off x="6084720" y="4005360"/>
            <a:ext cx="2374920" cy="70380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аз от вредных привыч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Text Box 17"/>
          <p:cNvSpPr/>
          <p:nvPr/>
        </p:nvSpPr>
        <p:spPr>
          <a:xfrm>
            <a:off x="179280" y="3068640"/>
            <a:ext cx="2232000" cy="39888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ви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Text Box 19"/>
          <p:cNvSpPr/>
          <p:nvPr/>
        </p:nvSpPr>
        <p:spPr>
          <a:xfrm>
            <a:off x="5164200" y="4067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Text Box 20"/>
          <p:cNvSpPr/>
          <p:nvPr/>
        </p:nvSpPr>
        <p:spPr>
          <a:xfrm>
            <a:off x="6156360" y="2924280"/>
            <a:ext cx="2521080" cy="70380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циональное пит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Text Box 21"/>
          <p:cNvSpPr/>
          <p:nvPr/>
        </p:nvSpPr>
        <p:spPr>
          <a:xfrm>
            <a:off x="1187280" y="62064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омпоненты здоров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Line 23"/>
          <p:cNvSpPr/>
          <p:nvPr/>
        </p:nvSpPr>
        <p:spPr>
          <a:xfrm flipV="1">
            <a:off x="4211640" y="220464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Line 24"/>
          <p:cNvSpPr/>
          <p:nvPr/>
        </p:nvSpPr>
        <p:spPr>
          <a:xfrm flipV="1">
            <a:off x="5724360" y="2060640"/>
            <a:ext cx="64800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Line 25"/>
          <p:cNvSpPr/>
          <p:nvPr/>
        </p:nvSpPr>
        <p:spPr>
          <a:xfrm>
            <a:off x="5724360" y="3429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Line 26"/>
          <p:cNvSpPr/>
          <p:nvPr/>
        </p:nvSpPr>
        <p:spPr>
          <a:xfrm>
            <a:off x="5724360" y="3716280"/>
            <a:ext cx="36036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Line 27"/>
          <p:cNvSpPr/>
          <p:nvPr/>
        </p:nvSpPr>
        <p:spPr>
          <a:xfrm>
            <a:off x="4211640" y="371628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Line 28"/>
          <p:cNvSpPr/>
          <p:nvPr/>
        </p:nvSpPr>
        <p:spPr>
          <a:xfrm flipH="1">
            <a:off x="2340000" y="3716280"/>
            <a:ext cx="71928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Line 29"/>
          <p:cNvSpPr/>
          <p:nvPr/>
        </p:nvSpPr>
        <p:spPr>
          <a:xfrm flipH="1">
            <a:off x="2411280" y="328464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Line 30"/>
          <p:cNvSpPr/>
          <p:nvPr/>
        </p:nvSpPr>
        <p:spPr>
          <a:xfrm flipH="1" flipV="1">
            <a:off x="1835280" y="2060640"/>
            <a:ext cx="122400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06:28:35Z</dcterms:created>
  <dc:creator>student</dc:creator>
  <dc:description/>
  <dc:language>en-US</dc:language>
  <cp:lastModifiedBy>Исаева</cp:lastModifiedBy>
  <dcterms:modified xsi:type="dcterms:W3CDTF">2007-12-23T21:13:44Z</dcterms:modified>
  <cp:revision>45</cp:revision>
  <dc:subject/>
  <dc:title>Слайд 1</dc:title>
</cp:coreProperties>
</file>